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0BA3-610C-4C10-A3EF-1BF12FD704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A0FD-4D84-45BD-B91B-CB1D9F07FFC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A72B-35D5-47F9-AA89-28D3777FA4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979-FAD0-4D20-9AD2-57B2DE67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8BD-1C44-4E9D-8A5D-9628A454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EF20-DDDF-4037-AB4B-05791526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080-8457-46A6-BC86-576DA63A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1EC-E4FC-4EF9-9DEC-E8E57EBF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BB3-097D-4986-BAC9-C9E46282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074-7610-4536-A7D2-9891DB14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9CB-2626-48E6-9781-47F10D41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EA3-69AB-47E6-BA3F-CC800B74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31A-3713-41D9-85E7-2D3F7CA0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DC5-817F-453E-A2B4-4F926B17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91D-3C0A-42AC-A445-DBDC086A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1E8E-078F-4ABA-AE22-D065039CD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ave i got news"/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news.bbc.co.uk/1/hi/world/7875367.st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928800" y="1571760"/>
            <a:ext cx="74293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Geography in the News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31212777@N05/3139226381"/>
          <p:cNvPicPr/>
          <p:nvPr/>
        </p:nvPicPr>
        <p:blipFill>
          <a:blip r:embed="rId1"/>
          <a:stretch/>
        </p:blipFill>
        <p:spPr>
          <a:xfrm>
            <a:off x="0" y="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457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have you learnt so far in Year 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recognise how Geography is represented in the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describe some simple Geographical news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synthesise information from newspaper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13833256@N00/1423767573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atch the cl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news.bbc.co.uk/1/hi/world/7875367.s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will show you a one-minute summary of the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want you to think which parts of the summary are related to Ge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32489087@N00/4343878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29160" y="142560"/>
            <a:ext cx="2671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57600" y="3714480"/>
            <a:ext cx="6386400" cy="31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going to work in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will try to read as many different news stories as you can in the time gi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need to fill in the required information onto you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31212777@N05/3139226381"/>
          <p:cNvPicPr/>
          <p:nvPr/>
        </p:nvPicPr>
        <p:blipFill>
          <a:blip r:embed="rId1"/>
          <a:stretch/>
        </p:blipFill>
        <p:spPr>
          <a:xfrm>
            <a:off x="0" y="0"/>
            <a:ext cx="9225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457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have you learnt so far in Year 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recognise how Geography is represented in the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describe some simple Geographical news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synthesise information from newspaper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4240" y="56433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rs. Add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ink teddy b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urric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643040" y="2643120"/>
            <a:ext cx="600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ve I got news for you caption roun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1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na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://www.setdesign.co.uk/storage/mo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f this is the answer what is the ques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0720"/>
            <a:ext cx="7772400" cy="31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928880" y="1785960"/>
            <a:ext cx="542916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Strong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batters the French quar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4143240" y="18572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i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071800" y="1928880"/>
            <a:ext cx="585792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President declares ‘Bush on </a:t>
            </a: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</a:rPr>
              <a:t>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214720" y="37148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643120" y="2214720"/>
            <a:ext cx="49291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P-Diddy goes all </a:t>
            </a: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643200" y="321480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928880" y="1214280"/>
            <a:ext cx="50720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5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auses 1.5 million sheep to d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1928880" y="135720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r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071800" y="1857240"/>
            <a:ext cx="521496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ing for South African childr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143080" y="192888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rocod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500200" y="1357200"/>
            <a:ext cx="442908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cret plan to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25 miles of Norfol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2571840" y="1928880"/>
            <a:ext cx="16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286000" y="1928880"/>
            <a:ext cx="52149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festation in Banglade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500200" y="1928880"/>
            <a:ext cx="15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5:46:07Z</dcterms:created>
  <dc:creator>Chris</dc:creator>
  <dc:description/>
  <dc:language>en-US</dc:language>
  <cp:lastModifiedBy>Chris</cp:lastModifiedBy>
  <dcterms:modified xsi:type="dcterms:W3CDTF">2009-08-31T16:05:29Z</dcterms:modified>
  <cp:revision>1</cp:revision>
  <dc:subject/>
  <dc:title>Slide 1</dc:title>
</cp:coreProperties>
</file>